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439-DD05-40EA-B5D2-E88617D9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88E-F4D5-41AE-8836-9E4525F4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432-E9AF-4DA6-BE27-7CEBDD4D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EEE-84F6-4D15-9D55-3EA06F69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7AC6-9982-4B73-8987-DD0C0F0B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475D-41E7-432F-BBCB-37641C0E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E847-B2BC-4C4B-AA51-7E94B27F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D248-50AD-4EFC-8B16-B37BBEF9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AE1-CDCB-4C36-BD6F-633780B5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9F3-E504-40DE-B8CF-35598E46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B140-CE06-4534-93AD-A21CC8C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BDF-BCB8-4904-8FBC-037EBC87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528-8A55-4768-99D1-1C5E38C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9BCE-FE84-45DC-9AB7-15DA8FB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3B25-0C95-42F9-8359-3F0EF242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ADCD-E88B-4F93-A966-ECB42BE2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8A38-C061-48A0-AE50-085B07E4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53D8F-6580-4A89-B104-B0D36A84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4ABD3-C683-44E6-A78C-3D2DDA7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ABD13-938C-445F-9354-9E0932A2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B194D-78CD-41CE-8111-49FC84B1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364AC-A1B3-4EE5-B96B-9D4F674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761-39D5-446F-B836-03CE522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729F1-E3F7-420E-8602-051FEB66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B3B28-D9F6-4141-A42F-1DD8775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579F8-BF9F-48E8-9AE0-6D32606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B22A7-D090-4030-BCA6-5CDEEB09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B0276-43B9-47EF-BEA0-E8E63D6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EC2DE-54C6-4531-B311-F47E9D31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50A26-EDAA-4515-96C1-605127A7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F6398-E98A-415C-ABB3-FD3F0260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3EF5D-38FA-4943-80AD-E2DE987A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C0878-9E30-453A-B844-81C3B5E2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772-73D6-4984-A657-358F5917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D223D-4B55-4350-8401-6BE70D9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40369-A4C7-4472-87E1-85D224B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705B8-13F5-4424-8033-3DF48628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B2CC3-29B1-47B7-9CFD-8824BF8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A2AE6-5240-4D8B-9B9B-A05ECB2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E576F-8537-487D-B154-520688C6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B15FE-1135-4FCA-9B4A-E364726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8035B-0B12-4697-B02F-ED66842A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D3720-B0DD-4CBD-B625-B9978613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B0C9D-9700-46C4-9399-15507285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FDF-746A-46CA-9711-D5D08212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80A71-4B7B-47F9-96CB-678D303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7DCE3-41AD-4FD7-8637-7BEED4C3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CFB47-F27C-475A-966F-C1318DC1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7F6E2-CD11-424E-87CC-8935614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00534-6D50-4B2F-B308-1D7EDDA0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4AE79-8BD7-4C2F-93A9-3DC17F8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62BE4-B6B6-459C-BC91-4823988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672DD-9D3A-4B50-B3D0-4C5EEF3E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B713A-E056-4DA7-9D53-AB587949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A6C84-76A1-446E-9E7C-416C8DB3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4BC-6AC2-4B96-80E9-B5D37AB1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69F49-F8AD-4E3C-AE1F-5E00A3F1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18E5-9788-4BB0-B190-EA7814A4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E262-1762-4921-BC7B-7C588626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6AE9-6F17-471F-B66D-5996715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DB56-9260-4BA2-8E4E-A1A77A6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60E9-E583-4EC6-9D83-4D544D22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91257-23B6-40E9-B915-55F3661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751D-E6EB-4D39-A5CF-8267709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BF6A-A3A9-44FB-AAB9-541C58D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B1B78-5170-47AC-BFC3-898982C9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9DD-2A94-4560-B07A-37BA3D3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0F5F-F27D-4CE4-950D-02E48DEC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87DA-8C82-42C8-B7D0-59900D47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88F3-53FD-4F28-B96C-367C9DDC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BBBAF-E3CD-48DB-BDB4-9AE323A7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2276C-38CC-426F-9F26-14FC799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DCF64-CE8E-40C6-AD21-BC00A3B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F529F-04BB-42E6-895D-00001A8D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04D52-95C7-4D38-BCBE-D2295E8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4B83F-DB28-474A-AFAF-C4B4E60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3DFFD-75B6-41BF-A5A4-B3A325F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EAF-DC5D-4EEF-BFFA-740DC9F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AF338-B5C5-475B-BA18-FFEEF82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0C251-1962-4291-B71F-20DC5B42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1CF31-E9A0-4C9C-BC2E-7B9ADC81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318EE-F1B4-4947-A163-D126B88E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A3BD7-38C6-423A-A306-5D768C92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68DC-D21B-4680-AEAB-C1E297CD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664C3-F7B5-499F-87E6-20387859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47E19-A57C-4AF2-B05C-B678CA6B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EB924-7597-4B02-92C5-471794A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281F5-A780-472B-BEF6-610C50B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841-280E-47CC-955E-26110C8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A6BC-671C-4EF5-A59E-AB36D23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B65A8-66AF-4DA3-94D9-57925A72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076E-C945-4153-AB27-C018C55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7E9A2-65D7-43F3-BEE2-047DD3E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5E99-9540-4E04-8AE1-32CD77CC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FBE7-EEFC-47ED-AC57-E8E45F20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E7E85-D1A6-40FF-8B1C-F5402F13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51C-8FF6-425E-8158-5AB1A515F6D9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D277-0B10-4A23-B278-8EFBCC3F358B}" type="slidenum">
              <a:rPr b="1" lang="en-AU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CF7-9C7F-4345-AAD0-263039DA71DA}" type="slidenum">
              <a:rPr b="1" lang="en-A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99AE-B884-42E0-8A45-B4313CE45799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67E-1C77-43DE-935C-346F4352C4DB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1EA-AC77-452C-944B-C95D92430F26}" type="slidenum">
              <a:rPr b="1" lang="en-AU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4EC4-C494-49B8-99A8-2D6C3734E1A5}" type="slidenum">
              <a:rPr b="1" lang="en-A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2651-E99E-4EB6-B24E-094B452016E3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allydownundy.com/wp-content/uploads/2008/04/sol-trujillo.jpg&amp;imgrefurl=http://wallydownundy.com/2008/04/22/wikipedia-best-practise-by-telstra/&amp;usg=__1yDPVjXg-Y3Fz2Lgvv4-3JyyzNA=&amp;h=584&amp;w=840&amp;sz=43&amp;hl=en&amp;start=2&amp;tbnid=eijH9cKugin8WM:&amp;tbnh=101&amp;tbnw=145&amp;prev=/images%3Fq%3Dsol%2Btrujillo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au/imgres?imgurl=http://poll-inc.com/polls/richard-branson/richard_branson.jpg&amp;imgrefurl=http://poll-inc.com/polls/richard-branson/&amp;usg=__CgTZv__7vjCJybmddMgKeIPV3ZA=&amp;h=414&amp;w=318&amp;sz=37&amp;hl=en&amp;start=2&amp;tbnid=x0JzupCB8NnVoM:&amp;tbnh=125&amp;tbnw=96&amp;prev=/images%3Fq%3Drichard%2Bbranson%26gbv%3D2%26hl%3Den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.au/imgres?imgurl=http://scrapetv.com/News/News%2520Pages/Technology/images/steve-jobs-3g-iphone.jpg&amp;imgrefurl=http://scrapetv.com/News/News%2520Pages/main%2520pages/Technology-Main-Page-Scrape-TV-The-World-on-your-side.html&amp;usg=__esMimc5yV-2TN1aICuSIAtszlb8=&amp;h=400&amp;w=400&amp;sz=102&amp;hl=en&amp;start=7&amp;tbnid=cbhC_UWLCu59IM:&amp;tbnh=124&amp;tbnw=124&amp;prev=/images%3Fq%3Dsteve%2Bjobs%26gbv%3D2%26hl%3De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.au/imgres?imgurl=http://usversusthem.files.wordpress.com/2008/02/barack-obama-is-on-fire.jpg&amp;imgrefurl=http://www.wearehymn.com/&amp;usg=__wTHbzWRYPPsChEIBSuBA4rw2GTE=&amp;h=1123&amp;w=750&amp;sz=138&amp;hl=en&amp;start=8&amp;tbnid=vVNij3PppxkKLM:&amp;tbnh=150&amp;tbnw=100&amp;prev=/images%3Fq%3Dbarack%2Bobama%26gbv%3D2%26hl%3De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m.au/imgres?imgurl=http://reporter.blogs.com/photos/uncategorized/2007/11/14/murdoch.jpg&amp;imgrefurl=http://reporter.blogs.com/thresq/defamation/index.html&amp;usg=__HlE-TTAAeSQ7tf7iQSaHY5udlS0=&amp;h=471&amp;w=350&amp;sz=163&amp;hl=en&amp;start=3&amp;tbnid=Wjs64bVUTNGYXM:&amp;tbnh=129&amp;tbnw=96&amp;prev=/images%3Fq%3DRupert%2BMurdoch%26gbv%3D2%26hl%3Den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butnerpres.org/assets/images/group_clipart.gif.jpg&amp;imgrefurl=http://www.butnerpres.org/html/session.html&amp;usg=__24M04uQLNWiD5a2lfUp_6jgat-o=&amp;h=319&amp;w=481&amp;sz=19&amp;hl=en&amp;start=17&amp;tbnid=K3vxfb27-SCfnM:&amp;tbnh=86&amp;tbnw=129&amp;prev=/images%3Fq%3Dgroup%2Bclip%2Bart%26gbv%3D2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butnerpres.org/assets/images/group_clipart.gif.jpg&amp;imgrefurl=http://www.butnerpres.org/html/session.html&amp;usg=__24M04uQLNWiD5a2lfUp_6jgat-o=&amp;h=319&amp;w=481&amp;sz=19&amp;hl=en&amp;start=17&amp;tbnid=K3vxfb27-SCfnM:&amp;tbnh=86&amp;tbnw=129&amp;prev=/images%3Fq%3Dgroup%2Bclip%2Bart%26gbv%3D2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of.com/images/clipart/xsmall2/15098_relaxed_blue_business_person_seated_in_a_chair_in_front_of_a_computer_his_feet_crossed_and_up_on_the_desk_while_leaning_back_and_looking_at_graphs_showing_an_increase_in_sales.jpg&amp;imgrefurl=http://www.clipartof.com/details/clipart/15098.html&amp;usg=__IXhyhZ8uDa_XGX3kpgohffiKjOM=&amp;h=338&amp;w=450&amp;sz=75&amp;hl=en&amp;start=1&amp;tbnid=FIeZ25N6Vh5JOM:&amp;tbnh=95&amp;tbnw=127&amp;prev=/images%3Fq%3Drelaxed%2Bboss%2Bclip%2Bart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of.com/images/clipart/xsmall2/15098_relaxed_blue_business_person_seated_in_a_chair_in_front_of_a_computer_his_feet_crossed_and_up_on_the_desk_while_leaning_back_and_looking_at_graphs_showing_an_increase_in_sales.jpg&amp;imgrefurl=http://www.clipartof.com/details/clipart/15098.html&amp;usg=__IXhyhZ8uDa_XGX3kpgohffiKjOM=&amp;h=338&amp;w=450&amp;sz=75&amp;hl=en&amp;start=1&amp;tbnid=FIeZ25N6Vh5JOM:&amp;tbnh=95&amp;tbnw=127&amp;prev=/images%3Fq%3Drelaxed%2Bboss%2Bclip%2Bart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ftopper.com/images/lib/Crap/secretary.gif&amp;imgrefurl=http://www.cftopper.com/index.cfm/blogId/1/tag/Online&amp;usg=__3i83NnGcfDhkpWE3tMOT4i56x5M=&amp;h=215&amp;w=339&amp;sz=20&amp;hl=en&amp;start=7&amp;tbnid=4jTyUCx4Oc8E0M:&amp;tbnh=75&amp;tbnw=119&amp;prev=/images%3Fq%3Dbusy%2Bclip%2Bart%26gbv%3D2%26hl%3De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api.ning.com/files/Sbays6GpgIi*xV1QgPGfHdmUcAsMULncdtN2dX1wAlEvFzpMp0fkBJSfbA1jikSm7FcBPknVWmD1g4Ni3GQXDjumEItx5GVf/direct_communication_marketing.jpg&amp;imgrefurl=http://telecentrefamily.ning.com/xn/detail/u_nsgzrri1cxdq&amp;usg=__QoGKrUjuYZTsTR-wWTbO8IRDXUs=&amp;h=303&amp;w=450&amp;sz=23&amp;hl=en&amp;start=1&amp;tbnid=nfSoYYRkGzSrxM:&amp;tbnh=86&amp;tbnw=127&amp;prev=/images%3Fq%3Dcommunication%26gbv%3D2%26hl%3De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msnbcmedia1.msn.com/j/msnbc/Components/Photos/070301/070301_bizstock_hmed_12p.hmedium.jpg&amp;imgrefurl=http://www.msnbc.msn.com/id/17403234/&amp;usg=__IcDr5NsTtiVhdOFs1iLRvvodEdc=&amp;h=273&amp;w=397&amp;sz=18&amp;hl=en&amp;start=3&amp;tbnid=J0s635BgaODkFM:&amp;tbnh=85&amp;tbnw=124&amp;prev=/images%3Fq%3Dboss%2Bemployee%26gbv%3D2%26hl%3De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finearts.utexas.edu/images/cfa/graphic_identity_guidelines/memo.gif&amp;imgrefurl=http://www.finearts.utexas.edu/cfa/graphic_identity_guidelines/CoFA_Style.cfm&amp;usg=__EXy7bhg4jXunXsikvibAP8XaVV0=&amp;h=534&amp;w=390&amp;sz=7&amp;hl=en&amp;start=6&amp;tbnid=bJXTusdYSIox_M:&amp;tbnh=132&amp;tbnw=96&amp;prev=/images%3Fq%3Dmemo%26gbv%3D2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blogs.rsvp.com.au/Bogan%2520200%2520x%2520200.gif&amp;imgrefurl=http://blogs.rsvp.com.au/2007/06/bogan_dating.html&amp;usg=__budqhdSvvfWJbApBLsoUVQhmeFY=&amp;h=200&amp;w=200&amp;sz=25&amp;hl=en&amp;start=17&amp;tbnid=gCp0AJiv8K2dKM:&amp;tbnh=104&amp;tbnw=104&amp;prev=/images%3Fq%3Dbogan%26gbv%3D2%26hl%3Den%26sa%3D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.au/imgres?imgurl=http://z.about.com/d/animatedtv/1/0/1/m/simp2006_HomerArmsCrossed_f.jpg&amp;imgrefurl=http://animatedtv.about.com/od/picturegalleries/ig/The-Simpsons-Pictures---18/Homer-Simpson--Arms-Crossed.htm&amp;usg=__LzvBSVSUy34NAV3klOiGhB3gsuE=&amp;h=432&amp;w=346&amp;sz=26&amp;hl=en&amp;start=1&amp;tbnid=-sFJ2Ep2dAOMbM:&amp;tbnh=126&amp;tbnw=101&amp;prev=/images%3Fq%3Darms%2Bcrossed%26gbv%3D2%26hl%3Den%26sa%3DX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.au/imgres?imgurl=http://www.winegolftours.com.au/images/PubTourAtCommercialHotel.jpg&amp;imgrefurl=http://www.winegolftours.com.au/tour_04_Country_Pub_Tour.php&amp;usg=__H4_XruQVrjtytfswb__66mEOxhw=&amp;h=600&amp;w=800&amp;sz=137&amp;hl=en&amp;start=4&amp;tbnid=pxWVfx-vS15nmM:&amp;tbnh=107&amp;tbnw=143&amp;prev=/images%3Fq%3Dpub%26gbv%3D2%26hl%3Den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erghuis.co.nz/abiator/weird/ear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rightwingnews.com/graphics/sleepyclintons.jpg&amp;imgrefurl=http://www.rightwingnews.com/archives/week_2004_06_06.PHP&amp;usg=__vc3QLxQ6Bu1MuD5JbMiR1bH9ZWk=&amp;h=300&amp;w=400&amp;sz=12&amp;hl=en&amp;start=3&amp;tbnid=G2qd5ExfmZVSRM:&amp;tbnh=93&amp;tbnw=124&amp;prev=/images%3Fq%3Dnodding%2Boff%26gbv%3D2%26hl%3De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oncurringopinions.com/archives/Negotiating.jpg&amp;imgrefurl=http://www.concurringopinions.com/archives/2008/02/law_professor_l_8.html&amp;usg=__-J8vnisoge2wTY0pzO3517dhUJQ=&amp;h=593&amp;w=809&amp;sz=548&amp;hl=en&amp;start=4&amp;tbnid=FwBXUWwvB60q0M:&amp;tbnh=105&amp;tbnw=143&amp;prev=/images%3Fq%3Dnegotiation%26gbv%3D2%26hl%3Den%26sa%3DX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heritagegp.com/mw/images/negotiation.jpg&amp;imgrefurl=http://www.heritagegp.com/mw/Services.htm&amp;usg=__5b2vdEPJQy0Akr7mfl2j1xPlB1Q=&amp;h=344&amp;w=481&amp;sz=21&amp;hl=en&amp;start=2&amp;tbnid=3AgoqaiVvc7g-M:&amp;tbnh=92&amp;tbnw=129&amp;prev=/images%3Fq%3Dnegotiation%26gbv%3D2%26hl%3Den%26sa%3DX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shepherd.edu/university/calendars/calendar.jpg&amp;imgrefurl=http://www.shepherd.edu/university/calendars/&amp;usg=__7LkzxWgAoZ7kYAWGZi-ImE7wpZ4=&amp;h=400&amp;w=432&amp;sz=49&amp;hl=en&amp;start=5&amp;tbnid=_UcVZbFwsOjouM:&amp;tbnh=117&amp;tbnw=126&amp;prev=/images%3Fq%3Dcalendar%26gbv%3D2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.au/imgres?imgurl=http://www-math.cudenver.edu/~wcherowi/clock2.gif&amp;imgrefurl=http://www-math.cudenver.edu/~wcherowi/clockar.html&amp;usg=__Xb9mxPkk-9YxCqWqG6whG9VhzZI=&amp;h=305&amp;w=297&amp;sz=3&amp;hl=en&amp;start=5&amp;tbnid=mOX41PiPpJs9JM:&amp;tbnh=116&amp;tbnw=113&amp;prev=/images%3Fq%3Dclock%26gbv%3D2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bp0.blogger.com/_Hd4PNP31TxI/RsgjjUpVNBI/AAAAAAAAAIs/sgJyFK3Cx6A/s320/burn-smithers.gif&amp;imgrefurl=http://adventuresofcancergirl.blogspot.com/2007/08/how-cool-is-this.html&amp;usg=__O1sIvnMjOHsGP3GuPMl7iQaU12Q=&amp;h=182&amp;w=225&amp;sz=14&amp;hl=en&amp;start=9&amp;tbnid=Yx84RFZGkRydAM:&amp;tbnh=87&amp;tbnw=108&amp;prev=/images%3Fq%3Dmr%2Bburns%2Bsmithers%26gbv%3D2%26hl%3De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topnews.in/sports/files/Sven-Goran-David.jpg&amp;imgrefurl=http://www.topnews.in/sports/sven-goran-eriksson-hopes-david-beckham-will-play-england-again-2252&amp;usg=__koxEq-vSnaQLEzbpp7RUaeaCxxc=&amp;h=300&amp;w=300&amp;sz=15&amp;hl=en&amp;start=1&amp;tbnid=DphdNI-ZY7a-gM:&amp;tbnh=116&amp;tbnw=116&amp;prev=/images%3Fq%3Dsven%2Bgoran%2Berikson%2Bbeckham%26gbv%3D2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delivery.superstock.com/WI/223/1538/PreviewComp/SuperStock_1538R-46625.jpg&amp;imgrefurl=http://www.superstock.com/stock-photos-images/1538R-46625&amp;usg=__vKbeSqBTHJENOx6MmaGWOwHWqnc=&amp;h=350&amp;w=350&amp;sz=57&amp;hl=en&amp;start=5&amp;tbnid=3KzRsWTAFWl9tM:&amp;tbnh=120&amp;tbnw=120&amp;prev=/images%3Fq%3Dangry%2Bboss%2Bclipart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rachelhanley.com/wp-content/uploads/2008/04/stress_one.gif&amp;imgrefurl=http://uve-got-blogged.blogspot.com/2008/10/back-to-real.html&amp;usg=__5A8UyZWaEr2l9o72rFUV23I54tU=&amp;h=799&amp;w=800&amp;sz=248&amp;hl=en&amp;start=2&amp;tbnid=ah4p4VsKoka7sM:&amp;tbnh=143&amp;tbnw=143&amp;prev=/images%3Fq%3Dstress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astlichkeit.at/stress2.JPG&amp;imgrefurl=http://www.examiner.com/x-796-Mental-Health-Issues-and-Rights-Examiner~topic27268-Stress&amp;usg=__cTiAX08Ek1SFVEPdnI0R8rcv0Dw=&amp;h=356&amp;w=302&amp;sz=12&amp;hl=en&amp;start=11&amp;tbnid=zBCXAJgysuFwwM:&amp;tbnh=121&amp;tbnw=103&amp;prev=/images%3Fq%3Dstress%26gbv%3D2%26hl%3De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razorsharpsounds.co.uk/images/people_partying_1.jpg&amp;imgrefurl=http://www.razorsharpsounds.co.uk/disco_hire_gallery_02.html&amp;usg=__IHtAJGXz9rlUZfcYWYKlIJWBxjU=&amp;h=500&amp;w=769&amp;sz=130&amp;hl=en&amp;start=13&amp;tbnid=9KKgw3IIlWKyCM:&amp;tbnh=92&amp;tbnw=142&amp;prev=/images%3Fq%3Dpartying%26gbv%3D2%26hl%3Den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delivery.superstock.com/WI/223/1538/PreviewComp/SuperStock_1538R-46625.jpg&amp;imgrefurl=http://www.superstock.com/stock-photos-images/1538R-46625&amp;usg=__vKbeSqBTHJENOx6MmaGWOwHWqnc=&amp;h=350&amp;w=350&amp;sz=57&amp;hl=en&amp;start=5&amp;tbnid=3KzRsWTAFWl9tM:&amp;tbnh=120&amp;tbnw=120&amp;prev=/images%3Fq%3Dangry%2Bboss%2Bclipart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delivery.superstock.com/WI/223/1538/PreviewComp/SuperStock_1538R-46625.jpg&amp;imgrefurl=http://www.superstock.com/stock-photos-images/1538R-46625&amp;usg=__vKbeSqBTHJENOx6MmaGWOwHWqnc=&amp;h=350&amp;w=350&amp;sz=57&amp;hl=en&amp;start=5&amp;tbnid=3KzRsWTAFWl9tM:&amp;tbnh=120&amp;tbnw=120&amp;prev=/images%3Fq%3Dangry%2Bboss%2Bclipart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istockphoto.com/file_thumbview_approve/2918444/2/istockphoto_2918444_salesman.jpg&amp;imgrefurl=http://www.istockphoto.com/file_closeup/what/business/2918444_salesman.php%3Fid%3D2918444&amp;usg=__uDd_wWZ3rC-7YlNDix9s92Bn-Ec=&amp;h=380&amp;w=380&amp;sz=28&amp;hl=en&amp;start=3&amp;tbnid=YInf620v_2YsOM:&amp;tbnh=123&amp;tbnw=123&amp;prev=/images%3Fq%3Dsalesman%2Bclipart%26gbv%3D2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istockphoto.com/file_thumbview_approve/2918444/2/istockphoto_2918444_salesman.jpg&amp;imgrefurl=http://www.istockphoto.com/file_closeup/what/business/2918444_salesman.php%3Fid%3D2918444&amp;usg=__uDd_wWZ3rC-7YlNDix9s92Bn-Ec=&amp;h=380&amp;w=380&amp;sz=28&amp;hl=en&amp;start=3&amp;tbnid=YInf620v_2YsOM:&amp;tbnh=123&amp;tbnw=123&amp;prev=/images%3Fq%3Dsalesman%2Bclipart%26gbv%3D2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guide.com/_named_clipart_images/0511-0703-0217-1530_Boss_Talking_to_His_Employees_clipart_image.jpg&amp;imgrefurl=http://www.clipartguide.com/_pages/0511-0703-0217-1530.html&amp;usg=__QZkkpyMiEEx6LQenU9Pfxsu8DS0=&amp;h=221&amp;w=300&amp;sz=14&amp;hl=en&amp;start=9&amp;tbnid=rFPqdQDNiJTPfM:&amp;tbnh=85&amp;tbnw=116&amp;prev=/images%3Fq%3Dtalking%2Bclip%2Bart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lipartguide.com/_named_clipart_images/0511-0703-0217-1530_Boss_Talking_to_His_Employees_clipart_image.jpg&amp;imgrefurl=http://www.clipartguide.com/_pages/0511-0703-0217-1530.html&amp;usg=__QZkkpyMiEEx6LQenU9Pfxsu8DS0=&amp;h=221&amp;w=300&amp;sz=14&amp;hl=en&amp;start=9&amp;tbnid=rFPqdQDNiJTPfM:&amp;tbnh=85&amp;tbnw=116&amp;prev=/images%3Fq%3Dtalking%2Bclip%2Bart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42680" y="2071800"/>
            <a:ext cx="54291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39d"/>
                </a:solidFill>
                <a:latin typeface="Tw Cen MT"/>
              </a:rPr>
              <a:t>MANAGEMENT STYLES AND SKILLS</a:t>
            </a:r>
            <a:endParaRPr b="0" lang="en-US" sz="5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w Cen MT"/>
              </a:rPr>
              <a:t>Chapter 3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5" descr="http://tbn3.google.com/images?q=tbn:eijH9cKugin8WM:http://wallydownundy.com/wp-content/uploads/2008/04/sol-trujill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357120"/>
            <a:ext cx="2000520" cy="1393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http://tbn3.google.com/images?q=tbn:x0JzupCB8NnVoM:http://poll-inc.com/polls/richard-branson/richard_bran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58040" y="2500200"/>
            <a:ext cx="1357200" cy="176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http://tbn2.google.com/images?q=tbn:cbhC_UWLCu59IM:http://scrapetv.com/News/News%2520Pages/Technology/images/steve-jobs-3g-iphon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6200" y="3857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http://tbn2.google.com/images?q=tbn:vVNij3PppxkKLM:http://usversusthem.files.wordpress.com/2008/02/barack-obama-is-on-fir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4200" y="4214880"/>
            <a:ext cx="1381320" cy="20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http://tbn2.google.com/images?q=tbn:Wjs64bVUTNGYXM:http://reporter.blogs.com/photos/uncategorized/2007/11/14/murdoch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5840" y="214200"/>
            <a:ext cx="1222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rticip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llows employees to be part of the decision-making proce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imilar to consulta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latter management struct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igh level of trust placed in employe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’s skill, knowledge and technical expertise recognis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5" descr="http://tbn1.google.com/images?q=tbn:K3vxfb27-SCfnM:http://www.butnerpres.org/assets/images/group_clipart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50720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rticip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tivation and morale are generally high amongst staff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Generally, managers give staff more prais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provide guidance to staff re: KPI’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ime consum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may be unclear about their role. Eg. One minute they are allowed to make decisions, the next they are no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re people involved – greater risk of losing contro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5" descr="http://tbn1.google.com/images?q=tbn:K3vxfb27-SCfnM:http://www.butnerpres.org/assets/images/group_clipart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3714840"/>
            <a:ext cx="1228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L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issez-fair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ave well alone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are given control for setting direction, tasks and decision making.  Managers take a step 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given little or no guida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n you think of a situation where this would be a good style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http://tbn1.google.com/images?q=tbn:FIeZ25N6Vh5JOM:http://www.clipartof.com/images/clipart/xsmall2/15098_relaxed_blue_business_person_seated_in_a_chair_in_front_of_a_computer_his_feet_crossed_and_up_on_the_desk_while_leaning_back_and_looking_at_graphs_showing_an_increase_in_sal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4786200"/>
            <a:ext cx="228600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L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issez-fair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n promote creativ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may be feel empower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re people involved – greater risk of losing contro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may feel unguided and lack motiv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5" descr="http://tbn1.google.com/images?q=tbn:FIeZ25N6Vh5JOM:http://www.clipartof.com/images/clipart/xsmall2/15098_relaxed_blue_business_person_seated_in_a_chair_in_front_of_a_computer_his_feet_crossed_and_up_on_the_desk_while_leaning_back_and_looking_at_graphs_showing_an_increase_in_sal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2214720"/>
            <a:ext cx="18144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ntingency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contingency is something that is undecided but depends on the situ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 uses whatever style fits the situation in order to be more effec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actors that would affect the style would b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organisation – goals, culture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mselves as a manager – personality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– skilled/unskilled? Personality et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ask – difficulty, skills required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ther constraints – time, budget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5" descr="http://tbn2.google.com/images?q=tbn:4jTyUCx4Oc8E0M:http://www.cftopper.com/images/lib/Crap/secretar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3840" y="285840"/>
            <a:ext cx="15001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Skill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 order to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an,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O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ganise,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L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ad and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ntrol effectively, a manager requires certain ski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y are communication, negotiation, time management, delegation, leadership, stress management, emotional intelligence and decision mak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3840" y="1600200"/>
            <a:ext cx="8551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transmission of information to one or more persons, in a way that ensures the recipient’s understanding is a close as possible to the meaning the sender intend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f you only learn one thing from me this year, it should be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“Communication is the most important skill for a manager to have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What ways do we communicate with each other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9" name="Picture 5" descr="http://tbn0.google.com/images?q=tbn:nfSoYYRkGzSrxM:http://api.ning.com/files/Sbays6GpgIi*xV1QgPGfHdmUcAsMULncdtN2dX1wAlEvFzpMp0fkBJSfbA1jikSm7FcBPknVWmD1g4Ni3GQXDjumEItx5GVf/direct_communication_market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0"/>
            <a:ext cx="19288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ypes of 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Formal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fficial. Directly related to organisational activities.  Eg. Meetings, conferences, appraisals, interviews, email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Informal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t official but may still be related to the organisation.  Eg. Gossip, networking, the “grapevine”, email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5" descr="http://tbn2.google.com/images?q=tbn:J0s635BgaODkFM:http://msnbcmedia1.msn.com/j/msnbc/Components/Photos/070301/070301_bizstock_hmed_12p.hmedi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4929120"/>
            <a:ext cx="1785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Verbal (oral)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: can be formal - meetings, conferences, interviews, phone conversations etc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 informal- gossip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Written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ail, memos, meeting minutes etc.  Can result in errors, or TONE OF THE WRITING BEING MISREA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Non-verbal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ody language, tone of voice (not what you are saying but how you are saying it), image of communicator, setting of meet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5" descr="http://tbn3.google.com/images?q=tbn:bJXTusdYSIox_M:http://www.finearts.utexas.edu/images/cfa/graphic_identity_guidelines/mem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14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85840" y="1599840"/>
            <a:ext cx="8858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ould you take orders from this gu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rossing your arms is non-verbal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ould a business meeting in a pub b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aken seriously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2" descr="http://tbn0.google.com/images?q=tbn:gCp0AJiv8K2dKM:http://blogs.rsvp.com.au/Bogan%2520200%2520x%252020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21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tbn1.google.com/images?q=tbn:-sFJ2Ep2dAOMbM:http://z.about.com/d/animatedtv/1/0/1/m/simp2006_HomerArmsCrossed_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3124080"/>
            <a:ext cx="1357200" cy="169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http://tbn1.google.com/images?q=tbn:pxWVfx-vS15nmM:http://www.winegolftours.com.au/images/PubTourAtCommercialHote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5214960"/>
            <a:ext cx="18572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Style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Management: 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a group of activities including POLC which aim to effectively and efficiently control company resources in order to meet objective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Traditionally, there are five ways you can do this..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ll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P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eopl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C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an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P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lay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L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across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2560" y="1599840"/>
            <a:ext cx="862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ont get confus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mmunication is not always just one of these types, it is usually a combin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rmal/Verb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rmal/writ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l/non-verb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l/verb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l/writte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an you think of an example for each of thes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Barriers to effective 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840" y="1600200"/>
            <a:ext cx="84801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hysical dist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neffective technology (ie. Email crash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e words used – words can mean different things to different peop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ltural differ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ow credible is the person sending the message. Ie. Would you believe an email saying school had been cancelled that was sent by a student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2" descr="http://tbn0.google.com/images?q=tbn:xlOs4OU2bzHhtM:http://www.berghuis.co.nz/abiator/weird/e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5143680"/>
            <a:ext cx="12859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Improving communic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599840"/>
            <a:ext cx="8551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llowing two-way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istening as well as spea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ing clear and concise – dont waffle on! (Just like in your Outcomes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ing aware of non-verbal cues being s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Understanding that there is a time and place for everyth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ing by wandering around (not just sitting your office all day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2" descr="http://tbn1.google.com/images?q=tbn:G2qd5ExfmZVSRM:http://www.rightwingnews.com/graphics/sleepyclinto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50004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Negoti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process of reaching an agreement through discussion and compromis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iming for a “win/win” situ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ges for a successful negoti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tting go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tting limits for comprom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stablishing positive working atmosphe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cording information and confirming understan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5" descr="http://tbn3.google.com/images?q=tbn:FwBXUWwvB60q0M:http://www.concurringopinions.com/archives/Negotiat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0"/>
            <a:ext cx="19288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Negoti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85840" y="1599840"/>
            <a:ext cx="8480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nowing when to comprom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aling the de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nfirmation of detai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egotiation Activ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5" descr="http://tbn0.google.com/images?q=tbn:3AgoqaiVvc7g-M:http://www.heritagegp.com/mw/images/negoti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1928880"/>
            <a:ext cx="2286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ime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recognition by a manager that time is a finite resource and an acknowledgement that there is a need to plan time effectivel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Something that you should be champions at by the end of this ye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5" descr="http://tbn1.google.com/images?q=tbn:_UcVZbFwsOjouM:http://www.shepherd.edu/university/calendars/calenda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4429080"/>
            <a:ext cx="1714320" cy="1592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http://tbn0.google.com/images?q=tbn:mOX41PiPpJs9JM:http://www-math.cudenver.edu/~wcherowi/clock2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285840"/>
            <a:ext cx="1076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ffective Time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99840"/>
            <a:ext cx="8551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1. Setting out the tasks to be done – making lists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2. Delegating tasks -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ing able to hand tasks and responsibilities to employees but maintaining accountabil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3. Establishing priorities -based on difficulty of task and deadline – don’t leave the hardest things until last!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4. Allocating time to particular tas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5. Adding in deadl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6. Review in case of changing priorities, event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Deleg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3840" y="1599840"/>
            <a:ext cx="8551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handing over of tasks, responsibility and authority to employees by managers who in turn maintain accountability for the tasks’ comple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Benefits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’s time is freed up for other tas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ress is reduc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ganisation runs more smoothly when boss is a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feel trusted and valu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creased motivation and promotion prospec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tter train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5" descr="http://tbn0.google.com/images?q=tbn:Yx84RFZGkRydAM:http://bp0.blogger.com/_Hd4PNP31TxI/RsgjjUpVNBI/AAAAAAAAAIs/sgJyFK3Cx6A/s320/burn-smither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0"/>
            <a:ext cx="1643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Delegat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85840" y="1599840"/>
            <a:ext cx="8480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roblems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if manager is not organised, they may not want to delegate as they dont know what is going on themsel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might fear being “shown up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might not have the time or inclination to train staf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might have an autocratic/persuasive style that does not really welcome deleg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eam Leadership skill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ose skills that the manager must employ to ensure the team is managed effectively including coaching, encouraging, conflict management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The ability to work as a member of a team is one of the most important skills employers look f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ading a team includ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learly defining roles of members and goals of gro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bility to encourage and recognise team eff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bility to resolve confli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ing team relationshi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8" name="Picture 5" descr="http://tbn1.google.com/images?q=tbn:DphdNI-ZY7a-gM:http://www.topnews.in/sports/files/Sven-Goran-Davi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6720" y="214200"/>
            <a:ext cx="15001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A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utocratic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rictly top-down, hierarchic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uthoritarian. Communication is one-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oss maintains all control and makes all decisions then tells staff what to 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given information on a “need to know” basi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You are paid for what you do here, surely that is enough!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o things by the book and expect the same from employe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2" descr="http://tbn1.google.com/images?q=tbn:3KzRsWTAFWl9tM:http://wwwdelivery.superstock.com/WI/223/1538/PreviewComp/SuperStock_1538R-466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Stress Managemen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ink of all the tasks a manager might be expected to do in a single day and you will understand how they could experience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STRE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Think of some things that make you stressed and how you react when stress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1" name="Picture 5" descr="http://tbn1.google.com/images?q=tbn:ah4p4VsKoka7sM:http://rachelhanley.com/wp-content/uploads/2008/04/stress_o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500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What influences Stress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mands of the jo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vel of skill (theirs and employe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hysical deman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oor interpersonal skills/relationships with employ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Signs of stres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creased absenteeis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ll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reased performance, motivation, mora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5" descr="http://tbn3.google.com/images?q=tbn:zBCXAJgysuFwwM:http://www.gastlichkeit.at/stres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4000680"/>
            <a:ext cx="171432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Avoiding Stress (think of these this year!!!!) 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13840" y="1599840"/>
            <a:ext cx="8551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Improving time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eping well informed (no nasty surpris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aying “No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designing tasks of office sp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eping fit and health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sking for HELP!!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ss of this -                      More o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is -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5" descr="http://tbn0.google.com/images?q=tbn:9KKgw3IIlWKyCM:http://www.razorsharpsounds.co.uk/images/people_partying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5143680"/>
            <a:ext cx="1874880" cy="1214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http://tbn0.google.com/images?q=tbn:IPAILuW76CEkRM:http://www.onlyscience.org/wp-content/uploads/2008/03/nerd.jpg"/>
          <p:cNvPicPr/>
          <p:nvPr/>
        </p:nvPicPr>
        <p:blipFill>
          <a:blip r:embed="rId3"/>
          <a:stretch/>
        </p:blipFill>
        <p:spPr>
          <a:xfrm>
            <a:off x="6357960" y="5000760"/>
            <a:ext cx="235728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motional Intelligence (EQ)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awareness of not only one’s own emotions, but also the emotions of oth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elf-manage/control impul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 socially a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leader who recognises that employees emotions play an important role in the workplace will be able to motivate staff and increase productiv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1" name="Picture 7" descr="http://tbn2.google.com/images?q=tbn:QyOuHYzlMm9StM:http://wwwdelivery.superstock.com/WI/223/1538/PreviewComp/SuperStock_1538R-7033.jpg"/>
          <p:cNvPicPr/>
          <p:nvPr/>
        </p:nvPicPr>
        <p:blipFill>
          <a:blip r:embed="rId1"/>
          <a:stretch/>
        </p:blipFill>
        <p:spPr>
          <a:xfrm>
            <a:off x="3000240" y="5072040"/>
            <a:ext cx="27860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Decision Making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process of making choices from available alternati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ADIM (from Pol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mportant not only to make decision, but also follow up and review results of decis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ffective communication of decisions and reasons for decisions importa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4" name="Picture 7" descr="http://tbn0.google.com/images?q=tbn:qO_4QQg9fvInYM:http://www.getentrepreneurial.com/images/decision-making.jpg"/>
          <p:cNvPicPr/>
          <p:nvPr/>
        </p:nvPicPr>
        <p:blipFill>
          <a:blip r:embed="rId1"/>
          <a:stretch/>
        </p:blipFill>
        <p:spPr>
          <a:xfrm>
            <a:off x="4000680" y="4714920"/>
            <a:ext cx="17856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A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utocratic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840" y="1600200"/>
            <a:ext cx="8551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isions are made quickl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 confusion over who is in char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irection is cl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uses poor morale and low 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hows lack of tru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ow job satisfaction for staf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http://tbn1.google.com/images?q=tbn:3KzRsWTAFWl9tM:http://wwwdelivery.superstock.com/WI/223/1538/PreviewComp/SuperStock_1538R-466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4289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A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utocratic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w Cen MT"/>
              </a:rPr>
              <a:t>Can you think of situations when this style would be suitable ??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http://tbn1.google.com/images?q=tbn:3KzRsWTAFWl9tM:http://wwwdelivery.superstock.com/WI/223/1538/PreviewComp/SuperStock_1538R-466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385776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rsuas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85840" y="1599840"/>
            <a:ext cx="8480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imilar to autocratic, except that managers attempt to </a:t>
            </a: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ersuade or “sell”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o employees the decisions they have mad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ision making is still centralis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rom now on you all have to start at 8am.  Just think of all the peak hour traffic you will miss by starting that little bit earlier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ne –way communi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seek to gain trust from employees by attempting to assure them all decisions are made with their best interests in min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2" descr="http://tbn3.google.com/images?q=tbn:YInf620v_2YsOM:http://www.istockphoto.com/file_thumbview_approve/2918444/2/istockphoto_2918444_sales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P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ersuas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ecisions are made quickl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 confusion over who is in char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irection is cl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may feel valued if the “selling” is done effectivel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ill could cause poor morale and low motiv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hows lack of tru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ow job satisfaction for staf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2" descr="http://tbn3.google.com/images?q=tbn:YInf620v_2YsOM:http://www.istockphoto.com/file_thumbview_approve/2918444/2/istockphoto_2918444_sales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17859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onsult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 are willing to consult with subordinates and understand the importance of positive relationships with employe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latter management struct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wo-way communication but at the end of the day, management still make the final decis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5" descr="http://tbn2.google.com/images?q=tbn:rFPqdQDNiJTPfM:http://www.clipartguide.com/_named_clipart_images/0511-0703-0217-1530_Boss_Talking_to_His_Employees_clipart_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080" y="214200"/>
            <a:ext cx="128592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</a:t>
            </a: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onsultative Management Sty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3840" y="1213920"/>
            <a:ext cx="8551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feel valu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 have opportunity to have their opinions heard – they could be good ideas that benefit the busine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Good morale and motivation lev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isadvantag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ime consum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Not all ideas can be implemented. Could cause ten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ight not be able to consult every time. Inconsist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5" descr="http://tbn2.google.com/images?q=tbn:rFPqdQDNiJTPfM:http://www.clipartguide.com/_named_clipart_images/0511-0703-0217-1530_Boss_Talking_to_His_Employees_clipart_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3643200"/>
            <a:ext cx="16434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2:56:38Z</dcterms:created>
  <dc:creator>lda</dc:creator>
  <dc:description/>
  <dc:language>en-US</dc:language>
  <cp:lastModifiedBy>Ern Reichelt</cp:lastModifiedBy>
  <dcterms:modified xsi:type="dcterms:W3CDTF">2011-03-28T11:21:32Z</dcterms:modified>
  <cp:revision>38</cp:revision>
  <dc:subject/>
  <dc:title>Operations management</dc:title>
</cp:coreProperties>
</file>